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97F-7676-4D14-94D2-83F531AF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D2D-F47B-4F11-B015-D14140C9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634-5924-447F-A93C-332ECF57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10B-CF14-4357-A9B1-B8DC0067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11A-0E7B-4F62-A50B-93B6AE6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222-69ED-41F4-8D5A-81C09232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F89-7C71-46BA-A4B9-D721C4ED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B02-6E1B-4895-B654-EB41E5D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AD6-A67F-4EF4-BF26-D59CB74F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7EA-7813-4460-87A3-D99EB81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978-EDA5-4C2B-A58A-69337F0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F12-4213-4817-AB05-2468827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6AA2-29CD-4E11-9EB0-67092302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7002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методы исследования информацио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ли управления ВУ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ая формализация взаимодействия в иерархической системе организации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560" y="573408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чик: доцент, к.т.н. Серкова Л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0" t="0" r="0" b="2159"/>
          <a:stretch/>
        </p:blipFill>
        <p:spPr>
          <a:xfrm>
            <a:off x="39600" y="115920"/>
            <a:ext cx="91044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917800" y="278136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280" y="295200"/>
            <a:ext cx="896472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6121440" cy="462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19240" y="187920"/>
            <a:ext cx="36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УНКЦИОНАЛЬНАЯ СТРУКТУРА ВУЗ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224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ая структура ВУЗа строится на основе дерева ц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окупность функциональных задач (последний уровень дерева целей), объединенных по технологическим признакам, обра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 функциональную подсис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ые подсистемы объединяются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ы подсистем. Группы подсистем образ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т функциональные комплексы, отображающие основные виды деятельности 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З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535680"/>
            <a:ext cx="9144000" cy="5126040"/>
            <a:chOff x="0" y="535680"/>
            <a:chExt cx="9144000" cy="5126040"/>
          </a:xfrm>
        </p:grpSpPr>
        <p:sp>
          <p:nvSpPr>
            <p:cNvPr id="48" name=""/>
            <p:cNvSpPr/>
            <p:nvPr/>
          </p:nvSpPr>
          <p:spPr>
            <a:xfrm>
              <a:off x="2277000" y="535680"/>
              <a:ext cx="4929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ОРМАЛИЗАЦИЯ ФУНКЦИОНАЛЬНОЙ СТРУКТУРЫ ВУЗ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96804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Функциональная структура FS представлена в виде множества функциональных комплексов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отображающих определенный вид деятельности ВУЗа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280" y="1477080"/>
              <a:ext cx="2521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=&lt;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1 ,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2,…,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FKn</a:t>
              </a: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75968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n -  количество комплексов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99188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аждый функциональный комплекс разбит на группы подсистем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KL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по этапам жизненного цикла конечного продукта в границах данного вида деятельности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059280" y="2481120"/>
                  <a:ext cx="33112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F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&lt;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&gt;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0" y="284076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k - число этапов жизненного цикла конечного продукта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424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 то же время функциональный комплекс состоит из ряда функциональных подсистем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FKC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выделенных по этапам цикла управление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576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059280" y="3643200"/>
                  <a:ext cx="338436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F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&lt;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&gt;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0" y="399024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m-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оличество этапов цикла управления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8112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ункциональная подсистема объединяет функциональные задачи, выделенные по технологическому признаку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495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303720" y="4713120"/>
                  <a:ext cx="29239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j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=&lt;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</m:sSubSup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FK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0" y="517176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J=n v m &lt;A=C v L  в зависимости от определяющего признака классификации, p </a:t>
              </a: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оличество элементарных функций управления, выполнение которых необходимо для реализации целей подсистем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62520" y="146988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5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62520" y="248112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6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62520" y="36338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7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62520" y="478296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8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504000"/>
            <a:ext cx="9144000" cy="5446080"/>
            <a:chOff x="0" y="504000"/>
            <a:chExt cx="9144000" cy="5446080"/>
          </a:xfrm>
        </p:grpSpPr>
        <p:sp>
          <p:nvSpPr>
            <p:cNvPr id="68" name=""/>
            <p:cNvSpPr/>
            <p:nvPr/>
          </p:nvSpPr>
          <p:spPr>
            <a:xfrm>
              <a:off x="1773360" y="504000"/>
              <a:ext cx="6006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ОРМАЛИЗАЦИЯ ИНФОРМАЦИОННОЙ МОДЕЛИ УПРАВЛЕНИЯ ВУЗом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9308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формационная модель управления ВУЗом строится с учетом  аспектов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0422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ектора задач (непустого), которые решаются ВУЗом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1108080"/>
                  <a:ext cx="155232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2967120" y="1473120"/>
              <a:ext cx="617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ектора стратегий управления ВУЗом, которые выражаются в      распределении материальных, финансовых, информационных и      интеллектуальных ресурсов между подсистемами ВУЗа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7920" y="1434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38880" y="1434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187280" y="1468440"/>
                  <a:ext cx="11430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2952720" y="2176200"/>
              <a:ext cx="6191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ектора возможных структур, на элементной базе    которых функционируют подсистемы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УЗа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38880" y="21607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97920" y="2127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5258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87280" y="2225520"/>
                  <a:ext cx="1409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5400" y="2736000"/>
              <a:ext cx="2733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ункции управ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654280" y="2763720"/>
                  <a:ext cx="148608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0" y="27522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пределяются векторами Р,С,S. В данном случае существует зависимос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05360" y="3168000"/>
              <a:ext cx="12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500" spc="-1" strike="noStrike">
                  <a:solidFill>
                    <a:srgbClr val="000000"/>
                  </a:solidFill>
                  <a:latin typeface="Arial"/>
                </a:rPr>
                <a:t>Y=f(Р,С,S)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515040"/>
              <a:ext cx="9144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Эффективность выполнения каждой функции y</a:t>
              </a:r>
              <a:r>
                <a:rPr b="0" lang="ru-RU" sz="13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 і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=1,k</a:t>
              </a:r>
              <a:r>
                <a:rPr b="0" lang="ru-RU" sz="13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 определяется показателем эффективност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5352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924360" y="3889440"/>
                  <a:ext cx="13050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0" y="41922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нтегральная характеристика выполнения ВУЗом своего назначения является критерием эффективности, которая имеет следующий вид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530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924360" y="4753080"/>
                  <a:ext cx="130500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0" y="498456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ля построения оптимальной информационной модели должно обеспечиваться условие решения задачи: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435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3635280" y="5473800"/>
                  <a:ext cx="20671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x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x</m:t>
                      </m:r>
                      <m:limLow>
                        <m:e>
                          <m:eqArr>
                            <m:e>
                              <m:r>
                                <m:t xml:space="preserve">c</m:t>
                              </m:r>
                              <m:r>
                                <m:t xml:space="preserve">∈</m:t>
                              </m:r>
                              <m:r>
                                <m:t xml:space="preserve">C</m:t>
                              </m:r>
                            </m:e>
                          </m:eqArr>
                        </m:e>
                        <m:lim>
                          <m:r>
                            <m:t xml:space="preserve">s</m:t>
                          </m:r>
                          <m:r>
                            <m:t xml:space="preserve">∈</m:t>
                          </m:r>
                          <m:r>
                            <m:t xml:space="preserve">S</m:t>
                          </m:r>
                        </m:lim>
                      </m:limLow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8462520" y="320976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1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2520" y="38606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2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62520" y="47228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3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62520" y="544500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14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33720" y="115200"/>
            <a:ext cx="86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ФОРМАЛИЗОВАННОЕ ОПИСАНИЕ ДВУХУРОВНЕВОЙ МОДЕЛИ ОРГАНИЗАЦИИ УЧЕБНОГО ПРОЦЕСС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31000" y="590400"/>
            <a:ext cx="4944600" cy="3370320"/>
            <a:chOff x="2331000" y="590400"/>
            <a:chExt cx="4944600" cy="3370320"/>
          </a:xfrm>
        </p:grpSpPr>
        <p:sp>
          <p:nvSpPr>
            <p:cNvPr id="100" name=""/>
            <p:cNvSpPr/>
            <p:nvPr/>
          </p:nvSpPr>
          <p:spPr>
            <a:xfrm>
              <a:off x="4414320" y="1962360"/>
              <a:ext cx="14904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88160" y="1848240"/>
              <a:ext cx="14904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7320" y="1848240"/>
              <a:ext cx="149040" cy="3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96880" y="2992680"/>
              <a:ext cx="3754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6520" y="3272760"/>
              <a:ext cx="37548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73320" y="3022560"/>
              <a:ext cx="3754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35840" y="3021120"/>
              <a:ext cx="31284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09160" y="3022560"/>
              <a:ext cx="3754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6880" y="1994040"/>
              <a:ext cx="4377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81600" y="3272760"/>
              <a:ext cx="37548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81600" y="1770480"/>
              <a:ext cx="25056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6520" y="1708560"/>
              <a:ext cx="25056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1200" y="590400"/>
              <a:ext cx="1377000" cy="67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Система целей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70640" y="1395360"/>
              <a:ext cx="2002680" cy="6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Деканат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ерхняя управляющая един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31000" y="2209320"/>
              <a:ext cx="137628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Кафедра 1 –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окальная управляющая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единиц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83480" y="2209320"/>
              <a:ext cx="131508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Кафедра і –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окальная управляющая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единиц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73320" y="2209320"/>
              <a:ext cx="150228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Courier New"/>
                </a:rPr>
                <a:t>Кафедра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ru-RU" sz="1300" spc="-1" strike="noStrike">
                  <a:solidFill>
                    <a:srgbClr val="000000"/>
                  </a:solidFill>
                  <a:latin typeface="Courier New"/>
                </a:rPr>
                <a:t> –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локальная управля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единиц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70640" y="3272760"/>
              <a:ext cx="2002680" cy="68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880" rIns="74880" tIns="37440" bIns="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Учебный</a:t>
              </a:r>
              <a:r>
                <a:rPr b="1" lang="ru-RU" sz="1400" spc="-1" strike="noStrike">
                  <a:solidFill>
                    <a:srgbClr val="000000"/>
                  </a:solidFill>
                  <a:latin typeface="Courier New"/>
                </a:rPr>
                <a:t> процес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правляемая систем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35440" y="1611360"/>
              <a:ext cx="83592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73320" y="1582920"/>
              <a:ext cx="813960" cy="62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772960" y="3022560"/>
              <a:ext cx="62604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773320" y="3022200"/>
              <a:ext cx="813960" cy="49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44240" y="3022560"/>
              <a:ext cx="62604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955960" y="3022200"/>
              <a:ext cx="813960" cy="499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5560" y="2021040"/>
              <a:ext cx="0" cy="1251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709160" y="202104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880" y="3022560"/>
              <a:ext cx="3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71800" y="3022560"/>
              <a:ext cx="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95560" y="289728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895200" y="2395800"/>
              <a:ext cx="187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07640" y="2521800"/>
              <a:ext cx="18756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07640" y="2834640"/>
              <a:ext cx="18756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7640" y="2646720"/>
              <a:ext cx="37548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8560" y="239580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85400" y="2083680"/>
              <a:ext cx="1080" cy="118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98560" y="289728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8560" y="2646720"/>
              <a:ext cx="3744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5400" y="2771640"/>
              <a:ext cx="187920" cy="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5400" y="2521800"/>
              <a:ext cx="18792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1680" y="1249920"/>
              <a:ext cx="36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0360" y="1992240"/>
              <a:ext cx="108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123360" y="1692720"/>
              <a:ext cx="688680" cy="49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745960" y="1692720"/>
              <a:ext cx="626400" cy="49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15600" y="3223080"/>
              <a:ext cx="475632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0000" y="1316880"/>
              <a:ext cx="4757040" cy="36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340000" y="4004640"/>
            <a:ext cx="49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вухуровневая модель (деканат-кафедра) организации учебного проце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560" y="436500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им совокупность локальных решающих единиц, вырабатывающих управленческие воз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c1, c2, ..., c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i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оздействие на объект локальной решающей единиц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-й кафед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80000" y="4871880"/>
                <a:ext cx="1779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62960" y="5444280"/>
            <a:ext cx="737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информация о состоянии мониторинга управляемой систе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 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информация о состоянии управляемой системы, наблюдаемая при локальном отслеживан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координирующее воздействие верхней един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наблюдения координатора за состоя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90800" y="5013360"/>
            <a:ext cx="381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-33480" y="43200"/>
            <a:ext cx="9237960" cy="6595560"/>
            <a:chOff x="-33480" y="43200"/>
            <a:chExt cx="9237960" cy="6595560"/>
          </a:xfrm>
        </p:grpSpPr>
        <p:sp>
          <p:nvSpPr>
            <p:cNvPr id="152" name=""/>
            <p:cNvSpPr/>
            <p:nvPr/>
          </p:nvSpPr>
          <p:spPr>
            <a:xfrm>
              <a:off x="-33480" y="43200"/>
              <a:ext cx="9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ОРМАЛИЗАЦИЯ ПРЯМОГО МЕТОДА КООРДИНАЦИИ В ДВУХУРОВНЕВОЙ СИСТЕМЕ МОНИТОРИНГ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7000" y="259920"/>
              <a:ext cx="873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ущность координации прямым методом заключается в том, что координатор, решая собственну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дачу оптимизации, предписывает определенные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114880" y="460440"/>
                  <a:ext cx="7524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5936400" y="443880"/>
              <a:ext cx="3062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всем взаимосвязанным переменны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81160" y="682560"/>
                  <a:ext cx="58068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204840" y="663120"/>
              <a:ext cx="871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=1, ...,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N.</a:t>
              </a: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 таком случае, локально решаемые задачи нижнего уровня представлены в следующем виде: оптимиз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3924360" y="1052640"/>
                  <a:ext cx="12240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9" name=""/>
            <p:cNvSpPr/>
            <p:nvPr/>
          </p:nvSpPr>
          <p:spPr>
            <a:xfrm>
              <a:off x="209520" y="1397880"/>
              <a:ext cx="1198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и условия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924360" y="1541520"/>
                  <a:ext cx="11523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J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676440" y="2511360"/>
                  <a:ext cx="79992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253800" y="247896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9120" y="2477520"/>
              <a:ext cx="4971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еличина ресурса, используемого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й локальной единицей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684360" y="2727360"/>
                  <a:ext cx="53316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J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1196280" y="2693160"/>
              <a:ext cx="253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—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ласть значений векторов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666960" y="2703600"/>
                  <a:ext cx="5050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8390880" y="1052640"/>
              <a:ext cx="381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3880" y="1973160"/>
              <a:ext cx="381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280" y="2909160"/>
              <a:ext cx="8762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пределяемая локальными ограничениями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й подсистемы. Решение задачи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,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 зависит как от параметров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90520" y="3129120"/>
                  <a:ext cx="6094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833760" y="3128400"/>
              <a:ext cx="1611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ак и от величин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340000" y="3159000"/>
                  <a:ext cx="1620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2416320" y="3125160"/>
              <a:ext cx="209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 влияющих на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430880" y="3129120"/>
                  <a:ext cx="9331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"/>
            <p:cNvSpPr/>
            <p:nvPr/>
          </p:nvSpPr>
          <p:spPr>
            <a:xfrm>
              <a:off x="5294880" y="3125160"/>
              <a:ext cx="317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508720" y="3129120"/>
                  <a:ext cx="9619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6374160" y="312516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6000" y="3331800"/>
              <a:ext cx="88200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и этом задача, решаемая на верхнем уровне, представима в виде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птимиз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3419640" y="3544920"/>
                  <a:ext cx="266508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207720" y="4053600"/>
              <a:ext cx="116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и услов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284720" y="3840120"/>
                  <a:ext cx="7920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</m:nary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219960" y="4315680"/>
              <a:ext cx="320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— общий используемый ресурс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3392640" y="4349880"/>
                  <a:ext cx="17136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3516120" y="4315680"/>
              <a:ext cx="176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едставимо в вид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5194440" y="4317840"/>
                  <a:ext cx="799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5882040" y="4316400"/>
              <a:ext cx="27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7440" y="4534920"/>
              <a:ext cx="8099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рудность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метода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ямой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оординации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остоит в том, что для некотор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123400" y="4562640"/>
                  <a:ext cx="5522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8591760" y="4521240"/>
              <a:ext cx="226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9280" y="4748040"/>
              <a:ext cx="8712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формируемых координатором, локально решаемые задачи нижнего уровня могут не иметь решения с учетом их локальных ограничений. Кроме того, боль­шие сложности сопряжены с определением множества допустимых решений координатор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924360" y="5251320"/>
                  <a:ext cx="1600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179280" y="5514840"/>
              <a:ext cx="86886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оскольку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но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ущественно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висит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от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локальных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ограничений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одсистем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нижнего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уровня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оцес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решения задач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,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 и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, 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) может осуществляться как последовательная реализация двух шагов. На пер­вом шаге координатор определяет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19960" y="358128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19960" y="398772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300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443400" y="5950080"/>
                  <a:ext cx="5522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4011120" y="5927040"/>
              <a:ext cx="4915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а на втором — локальные решающие единицы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пределяют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300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50920" y="6165720"/>
                  <a:ext cx="96192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1110600" y="6130080"/>
              <a:ext cx="6741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 Однако при таком подходе координатор должен знать функциональные отнош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2907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7761240" y="6105600"/>
                  <a:ext cx="9144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198360" y="6346080"/>
              <a:ext cx="6157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ножество допустимых решений (6) и действительные значения                    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91160" y="522612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300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292720" y="6381720"/>
                  <a:ext cx="96192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259920"/>
            <a:ext cx="9180000" cy="6093000"/>
            <a:chOff x="0" y="259920"/>
            <a:chExt cx="9180000" cy="6093000"/>
          </a:xfrm>
        </p:grpSpPr>
        <p:sp>
          <p:nvSpPr>
            <p:cNvPr id="208" name=""/>
            <p:cNvSpPr/>
            <p:nvPr/>
          </p:nvSpPr>
          <p:spPr>
            <a:xfrm>
              <a:off x="264600" y="259920"/>
              <a:ext cx="852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ОРМАЛИЗАЦИЯ  МЕТОДА  ШТРАФОВ В КООРДИНАЦИИ СИСТЕМЫ МОНИТОРИНГА ОРГАНИЗАЦ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ЕБНОГО ПРОЦЕСС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7362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оординация методом штрафов состоит в организации итератив­ной процедуры между управляющими единицами верхнего(деканат) и нижнего(кафедра) уровней. При этом координатор формирует некоторые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58680" y="1141200"/>
                  <a:ext cx="5526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565560" y="1121400"/>
              <a:ext cx="797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получает отклики подсистем нижнего уровня в форме значений их функций полезности                  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7537320" y="1141200"/>
                  <a:ext cx="914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8377560" y="1121400"/>
              <a:ext cx="802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не зна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80" y="1324800"/>
              <a:ext cx="243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ни вида функций                   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403280" y="1338120"/>
                  <a:ext cx="91440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2271240" y="1324800"/>
              <a:ext cx="134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ни значений    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330720" y="1357200"/>
                  <a:ext cx="161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0" y="1424880"/>
              <a:ext cx="9144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роме того, координатор должен иметь некоторую мо­дель допустимого множества </a:t>
              </a:r>
              <a:r>
                <a:rPr b="1" i="1" lang="ru-RU" sz="1300" spc="-1" strike="noStrike">
                  <a:solidFill>
                    <a:srgbClr val="000000"/>
                  </a:solidFill>
                  <a:latin typeface="Arial"/>
                </a:rPr>
                <a:t>yR(i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, формирование которой должно также обеспечиваться рассматриваемой итеративной процедурой путем получения соответствующей информации от локальных подсистем ниж­него уровн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Такой способ координации может быть реализован путем исполь­зования соответствующих функций штрафа при нарушении требова­ний координатора в локальных задачах нижнего уровня. В этом слу­чае локальные задачи нижнего уровня принимают вид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40" y="2748600"/>
              <a:ext cx="1465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птимиз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3630600" y="2712960"/>
                  <a:ext cx="23814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p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1" name=""/>
            <p:cNvSpPr/>
            <p:nvPr/>
          </p:nvSpPr>
          <p:spPr>
            <a:xfrm>
              <a:off x="4680" y="3182040"/>
              <a:ext cx="124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ри условия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654360" y="3173400"/>
                  <a:ext cx="228600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4320" y="3685320"/>
              <a:ext cx="141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ограничения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646440" y="3616200"/>
                  <a:ext cx="243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∈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19080" y="4071240"/>
              <a:ext cx="7189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чевидно  функция  штрафа  используется  для  обеспечения  условия            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554880" y="4071960"/>
                  <a:ext cx="5713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0" y="407160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Аналогично, введение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оответствующих функций штрафа можно учесть ограничения по ресурсам и условие                    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6791400" y="4287600"/>
                  <a:ext cx="876240" cy="2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0" y="4572720"/>
              <a:ext cx="914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ешаемая координатором задача сводится к оптимизации функц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95640" y="4852800"/>
                  <a:ext cx="540540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p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Ψ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0" y="5268960"/>
              <a:ext cx="914400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Если локальные функции полезности меньше, чем значения штра­фов, то этим обеспечивается анализ отсутствия допустимых решений в системе. Итерационный процесс координации направлен на умень­шение значений штрафов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Если в описанном итерационном процессе дости­гаются решения, в которых штраф оказывается равным нулю, то такие зна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2627280" y="6087960"/>
                  <a:ext cx="2192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2658240" y="6060240"/>
              <a:ext cx="337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являются допустимыми и оптимальным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35600" y="275256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35600" y="318276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35600" y="3614760"/>
              <a:ext cx="38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62880" y="4841640"/>
              <a:ext cx="473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uk-UA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908000" y="260280"/>
          <a:ext cx="525636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60280"/>
                    <a:ext cx="52563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39640" y="3565440"/>
          <a:ext cx="8280360" cy="2671560"/>
        </p:xfrm>
        <a:graphic>
          <a:graphicData uri="http://schemas.openxmlformats.org/drawingml/2006/table">
            <a:tbl>
              <a:tblPr/>
              <a:tblGrid>
                <a:gridCol w="582840"/>
                <a:gridCol w="3560760"/>
                <a:gridCol w="582480"/>
                <a:gridCol w="3554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электронной ба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базы мониторинга по исполнител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электронной ба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распорядительной докум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редупреждения о сроке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зад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ос сроков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ение карточки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тирование карточки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карточки исполн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данных об исполн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хем проведения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выходных докум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базы методологии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нформационных справоч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нормативно-справочной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анных о рейтинг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азы этапов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архив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тандартов выполнения по этапам монитор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4:36:23Z</dcterms:created>
  <dc:creator>Vet</dc:creator>
  <dc:description/>
  <dc:language>en-US</dc:language>
  <cp:lastModifiedBy>student</cp:lastModifiedBy>
  <dcterms:modified xsi:type="dcterms:W3CDTF">2009-09-23T10:20:28Z</dcterms:modified>
  <cp:revision>9</cp:revision>
  <dc:subject/>
  <dc:title>Слайд 1</dc:title>
</cp:coreProperties>
</file>